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098-0AEC-41B2-B838-17D94173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1958-3655-4D32-BE7D-47BA0F0E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779-E6E1-43EE-9CB7-0572C982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025-5D30-4C2A-A100-D236371D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8789-A0B2-4910-BE5F-9D1F4398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9C1-1535-4760-B8BF-396BCC62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F88-8877-45CA-B6DE-39411700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180-5D86-4845-A54A-68400219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1274-7FD6-401F-8A7E-C68984CC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876-6229-4DB4-974E-EBFE46A5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EBB-2A5A-48EF-94A6-CC3E0B95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207-07D5-4828-8AA5-16FAC87B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marL="324000" indent="-324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04880" indent="-2700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2" marL="1084320" indent="-216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1517760" indent="-2160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4" marL="1951200" indent="-2160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5" marL="1951200" indent="-2160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6" marL="1951200" indent="-2160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00D462CC-F947-4231-B044-40C07C6C441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4200" y="1143000"/>
          <a:ext cx="8786880" cy="5062680"/>
        </p:xfrm>
        <a:graphic>
          <a:graphicData uri="http://schemas.openxmlformats.org/drawingml/2006/table">
            <a:tbl>
              <a:tblPr/>
              <a:tblGrid>
                <a:gridCol w="1438560"/>
                <a:gridCol w="2398680"/>
                <a:gridCol w="2398680"/>
                <a:gridCol w="2550960"/>
              </a:tblGrid>
              <a:tr h="549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MBRE 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OX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>
                        <a:alpha val="54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ÍNTO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OXICACIÓN LIG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>
                        <a:alpha val="54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ÍNTO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OXICACIÓN EXTR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>
                        <a:alpha val="54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TA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2d050">
                        <a:alpha val="54000"/>
                      </a:srgbClr>
                    </a:solidFill>
                  </a:tcPr>
                </a:tc>
              </a:tr>
              <a:tr h="9460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venenamiento Paralizante por Molus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PS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>
                        <a:alpha val="23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69840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30 min a unas horas de la ingestión: hormigueo alrededor de los labios que se extiende hacia cara y cuello, debilidad muscula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>
                        <a:alpha val="23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69840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álisis muscular, dificultad respiratoria, la muerte puede ocurrir dentro de 2-24 ho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>
                        <a:alpha val="23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69840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vados estomacales, tratamiento médico sintomático con apoyo de ventilación mecánic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>
                        <a:alpha val="23000"/>
                      </a:srgbClr>
                    </a:solidFill>
                  </a:tcPr>
                </a:tc>
              </a:tr>
              <a:tr h="758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venenamiento Amnésico por Moluscos (AS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69840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pués de 3-5 hr de la ingestión: náusea, vómito, diarrea dolores abdomina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69840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uesta disminuida al dolor, alucinaciones, confusión, pérdida de la memoria de corta du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69840" algn="just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tamiento médico sintomá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9cde5"/>
                    </a:solidFill>
                  </a:tcPr>
                </a:tc>
              </a:tr>
              <a:tr h="7570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venenamiento Diarreico por Moluscos (DSP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>
                        <a:alpha val="47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69840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pués de 30 min a unas horas de la ingestión: diarrea, náuseas, vómito y dolor abdomi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>
                        <a:alpha val="47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69840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exposición crónica puede promover la formación de tumores en el sistema diges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>
                        <a:alpha val="47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69840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uperación después de tres días, independientemente del tratamiento médico sintomátic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>
                        <a:alpha val="47000"/>
                      </a:srgbClr>
                    </a:solidFill>
                  </a:tcPr>
                </a:tc>
              </a:tr>
              <a:tr h="914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venenamiento Neurotóxico por Moluscos (NS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>
                        <a:alpha val="69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69840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pués de 3-6 horas, dolor de cabeza, vómito, diarrea debilidad muscular y dolor en músculo y articulacion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>
                        <a:alpha val="69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69840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calofríos, sensibilidad inversa al  frio y calor, dificultad respiratoria, visión doble, problemas al hablar y degluti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>
                        <a:alpha val="69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69840" algn="just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tamiento médico sintomá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>
                        <a:alpha val="69000"/>
                      </a:srgbClr>
                    </a:solidFill>
                  </a:tcPr>
                </a:tc>
              </a:tr>
              <a:tr h="1136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guatera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venenamiento Ciguaterico por Peces (CF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>
                        <a:alpha val="45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69840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4-12 horas después de comer peces contaminados: dolor abdominal, náuseas, vómito y diarrea; temblores, picazón, adormecimiento en boca y extremidad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>
                        <a:alpha val="45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69840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lor en músculo y articulaciones, debilidad, midriasis, salivación contracturas musculares, bradicardia, hipotensión y estado de com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>
                        <a:alpha val="45000"/>
                      </a:srgbClr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marL="69840">
                        <a:tabLst>
                          <a:tab algn="l" pos="0"/>
                          <a:tab algn="l" pos="866880"/>
                          <a:tab algn="l" pos="1733400"/>
                          <a:tab algn="l" pos="2600280"/>
                          <a:tab algn="l" pos="3467160"/>
                          <a:tab algn="l" pos="4334040"/>
                          <a:tab algn="l" pos="5200560"/>
                          <a:tab algn="l" pos="6067440"/>
                          <a:tab algn="l" pos="6934320"/>
                          <a:tab algn="l" pos="7800840"/>
                          <a:tab algn="l" pos="8667720"/>
                          <a:tab algn="l" pos="9534600"/>
                          <a:tab algn="l" pos="1040148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tamiento médico sintomático. Se recomienda la administración de soluciones intravenosas de Gluconato de calcio y de Manitol para corregir alteraciones neurológic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>
                        <a:alpha val="45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2" name="Rectangle 1"/>
          <p:cNvSpPr/>
          <p:nvPr/>
        </p:nvSpPr>
        <p:spPr>
          <a:xfrm>
            <a:off x="836640" y="504000"/>
            <a:ext cx="7678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spAutoFit/>
          </a:bodyPr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oxicaciones humanas por el consumo de moluscos bivalvos cont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 biotoxinas producidas por microalg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9:01:30Z</dcterms:created>
  <dc:creator>Casimiro Ramirez</dc:creator>
  <dc:description/>
  <dc:language>en-US</dc:language>
  <cp:lastModifiedBy>Casimiro Ramirez</cp:lastModifiedBy>
  <dcterms:modified xsi:type="dcterms:W3CDTF">2008-11-03T19:36:14Z</dcterms:modified>
  <cp:revision>6</cp:revision>
  <dc:subject/>
  <dc:title>Diapositiva 1</dc:title>
</cp:coreProperties>
</file>